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29.jpeg" ContentType="image/jpeg"/>
  <Override PartName="/ppt/media/image33.wmf" ContentType="image/x-wmf"/>
  <Override PartName="/ppt/media/image27.png" ContentType="image/png"/>
  <Override PartName="/ppt/media/image24.gif" ContentType="image/gif"/>
  <Override PartName="/ppt/media/image17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23.jpeg" ContentType="image/jpeg"/>
  <Override PartName="/ppt/media/image11.jpeg" ContentType="image/jpeg"/>
  <Override PartName="/ppt/media/image9.jpeg" ContentType="image/jpeg"/>
  <Override PartName="/ppt/media/image38.png" ContentType="image/png"/>
  <Override PartName="/ppt/media/image30.jpeg" ContentType="image/jpeg"/>
  <Override PartName="/ppt/media/image35.wmf" ContentType="image/x-wmf"/>
  <Override PartName="/ppt/media/image13.jpeg" ContentType="image/jpeg"/>
  <Override PartName="/ppt/media/image32.wmf" ContentType="image/x-wmf"/>
  <Override PartName="/ppt/media/image10.wmf" ContentType="image/x-wmf"/>
  <Override PartName="/ppt/media/image12.jpeg" ContentType="image/jpeg"/>
  <Override PartName="/ppt/media/image40.png" ContentType="image/png"/>
  <Override PartName="/ppt/media/image4.jpeg" ContentType="image/jpeg"/>
  <Override PartName="/ppt/media/image8.wmf" ContentType="image/x-wmf"/>
  <Override PartName="/ppt/media/image34.wmf" ContentType="image/x-wmf"/>
  <Override PartName="/ppt/media/image25.png" ContentType="image/png"/>
  <Override PartName="/ppt/media/image42.jpeg" ContentType="image/jpeg"/>
  <Override PartName="/ppt/media/image36.png" ContentType="image/png"/>
  <Override PartName="/ppt/media/image39.png" ContentType="image/png"/>
  <Override PartName="/ppt/media/image41.png" ContentType="image/png"/>
  <Override PartName="/ppt/media/image31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3.jpeg" ContentType="image/jpeg"/>
  <Override PartName="/ppt/media/image37.jpeg" ContentType="image/jpeg"/>
  <Override PartName="/ppt/media/image28.wmf" ContentType="image/x-wmf"/>
  <Override PartName="/ppt/media/image5.jpeg" ContentType="image/jpeg"/>
  <Override PartName="/ppt/media/image26.jpeg" ContentType="image/jpeg"/>
  <Override PartName="/ppt/media/image20.png" ContentType="image/png"/>
  <Override PartName="/ppt/media/image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1493A-6447-4C62-B454-DEEF6CF3D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A69CD9A-DD65-4904-A98C-D22AFDA6D8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2FB6746-EF23-46CC-97AE-5C46941624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7516D53-C466-41A8-87F6-04DB1AC2E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A36973-1D40-4EEB-A1FF-94B63E98F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71689CF-C02A-45BB-9D36-A162A0E84F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526757D-152D-4FDC-81DC-CA207DF9D8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E3473C5-7F0E-4C15-A6D5-8E457C209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DE41AD9-F88D-4A2A-958E-823452F1A8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BE231BC-2C77-4E61-8322-7386F927A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86C7332-8A97-40B6-8E53-1E100FFC61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F257FED-1C7D-4FF6-B4F8-018F534903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697674B-D6B9-413E-BD43-E811FFC33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410D797-7DF2-4287-8A9E-01A668BF7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B44A4BA1-498F-43BB-AB16-04001EEAE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DFEA9C1-7176-4C3A-ADBC-C6DFD7E98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586F-FE10-4226-8355-D08C7525B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82EA771-39B2-42AD-8D83-FC23175F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F506440-8BFA-4CC2-B7C2-E62B7E781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2AED2C8-8B37-4CA4-9A45-E8AEB3CB8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E2B39-E2EA-44F4-81CB-397E78BBB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A7E4F2-40C2-428F-A2D1-A109B22143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1C406-2220-4045-A6CA-E819A1E95E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39020-A970-47FF-AC64-B95A0A11F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BB1A7E-41A8-4BA5-9F45-2CAE6D3122F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CD432-A037-47FF-A3F6-98C92B73B5D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CE362D-3C55-4766-B6C3-EC1596A4075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A7150-5C36-48ED-9B97-F6856875743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BC2D9-53BA-4ED0-B66A-7BE4E829A2A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9488CC-9CC4-454F-B906-2071CFC726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C04247-F956-454D-99A6-517A8EF1B0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75B0C-DC99-4CAD-A178-5DE09007F4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DCBF7-2100-488A-8432-CDF9DD97C3E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0D1BC6-161F-47F4-8029-6855CFB6F80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E35387-C0CF-4E66-9CCB-185241D4FAD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D9C703-1116-4CF0-BF95-A89425F835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C56E16-807D-4504-B68D-307081AF6CE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930264-9804-44F8-8D81-20F621D83D6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00D6E-DF00-4B3B-A588-6FB33DCAD5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C189FD-66AD-4A8B-BA89-9EA7BFFD1E1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2BF325-534B-4CBF-B655-6ED9EB55370E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1D49F6-E757-47C5-9F85-07467750FB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F5FA6-9FDB-4029-904F-7EDB4E5B488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34AC2F-A3E1-4E83-B339-71C7612190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B026D-1695-4E97-B0E5-902BE3B4197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EC53-2DD2-482F-A2F7-10DA6E91266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A73E5-2385-4ABF-9A2C-847D8913919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ED2D68-E66D-4F68-951E-5B915E2895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0DD431-97BC-4733-95CC-C8025B12A8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2351BF-6CA2-4894-8F5C-4D97DF4539E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9E81-CA03-4D32-B0D9-237356C9FCA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C3BF-1570-44B3-9E9B-D32758ED562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0C8F-ACBB-4157-AB60-FAC1A4C7E3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0541-735C-4C99-9A65-1BFBBCD9CEF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03F28-E181-4B98-9451-ABA8FB1CD0C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F919A-079E-4114-8319-7DDCFAF1EF8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B8B71-6CDB-4399-AD95-382425C93C0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9801-7048-443E-A291-30E7D736614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C952-D494-432B-A8B8-AF19FE24412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FAD9-D92F-4614-AAE6-276854601A3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324E-7894-409A-90AA-67DAEA7CB7B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06404-865C-4C8E-93B1-8C2A33DE9FB9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EE0E4-191A-4E11-9D60-F0207A150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0352CC-009D-4E58-84A1-9243BC1E6A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E6B9D-B03F-45E9-A2E3-74374514D1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75234-192D-457A-A483-6A21032694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B3EB2-C3E2-42D1-85E0-39CC008FC5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C450E-A029-4568-B49B-3AB95EFA49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82ECB-C643-4B0E-985C-0DDFA1AC801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88B8-4BD6-4E66-8BF0-161FB62C76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0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4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Num" idx="5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26BE-E0A3-43CB-BABE-6C0DC31428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58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61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1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3745-D904-418E-8E3D-966F54EA516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7.png"/><Relationship Id="rId4" Type="http://schemas.openxmlformats.org/officeDocument/2006/relationships/image" Target="../media/image19.png"/><Relationship Id="rId5" Type="http://schemas.openxmlformats.org/officeDocument/2006/relationships/image" Target="../media/image17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2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2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5" name="Text Box 16"/>
          <p:cNvSpPr/>
          <p:nvPr/>
        </p:nvSpPr>
        <p:spPr>
          <a:xfrm>
            <a:off x="1981080" y="2057400"/>
            <a:ext cx="678204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Закупка и инвентарный уче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Line 22"/>
          <p:cNvSpPr/>
          <p:nvPr/>
        </p:nvSpPr>
        <p:spPr>
          <a:xfrm>
            <a:off x="3124080" y="2971800"/>
            <a:ext cx="3812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1"/>
          <p:cNvSpPr/>
          <p:nvPr/>
        </p:nvSpPr>
        <p:spPr>
          <a:xfrm flipH="1">
            <a:off x="2971800" y="441972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19"/>
          <p:cNvSpPr/>
          <p:nvPr/>
        </p:nvSpPr>
        <p:spPr>
          <a:xfrm>
            <a:off x="6019920" y="44197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18"/>
          <p:cNvSpPr/>
          <p:nvPr/>
        </p:nvSpPr>
        <p:spPr>
          <a:xfrm flipH="1">
            <a:off x="6019920" y="3124080"/>
            <a:ext cx="38088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8382240" cy="5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ак внедрить инвентарный учет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Oval 3"/>
          <p:cNvSpPr/>
          <p:nvPr/>
        </p:nvSpPr>
        <p:spPr>
          <a:xfrm>
            <a:off x="2971800" y="2819520"/>
            <a:ext cx="350532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4"/>
          <p:cNvSpPr/>
          <p:nvPr/>
        </p:nvSpPr>
        <p:spPr>
          <a:xfrm>
            <a:off x="2743200" y="3494160"/>
            <a:ext cx="3962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НВЕНТАР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Oval 5"/>
          <p:cNvSpPr/>
          <p:nvPr/>
        </p:nvSpPr>
        <p:spPr>
          <a:xfrm>
            <a:off x="3505320" y="137160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Oval 6"/>
          <p:cNvSpPr/>
          <p:nvPr/>
        </p:nvSpPr>
        <p:spPr>
          <a:xfrm>
            <a:off x="6324480" y="2209680"/>
            <a:ext cx="2210040" cy="12956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Oval 7"/>
          <p:cNvSpPr/>
          <p:nvPr/>
        </p:nvSpPr>
        <p:spPr>
          <a:xfrm>
            <a:off x="6172200" y="4419720"/>
            <a:ext cx="2590920" cy="17524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Oval 8"/>
          <p:cNvSpPr/>
          <p:nvPr/>
        </p:nvSpPr>
        <p:spPr>
          <a:xfrm>
            <a:off x="3581280" y="5105520"/>
            <a:ext cx="236232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Oval 9"/>
          <p:cNvSpPr/>
          <p:nvPr/>
        </p:nvSpPr>
        <p:spPr>
          <a:xfrm>
            <a:off x="1066680" y="4343400"/>
            <a:ext cx="221004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Oval 10"/>
          <p:cNvSpPr/>
          <p:nvPr/>
        </p:nvSpPr>
        <p:spPr>
          <a:xfrm>
            <a:off x="762120" y="2133720"/>
            <a:ext cx="251460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11"/>
          <p:cNvSpPr/>
          <p:nvPr/>
        </p:nvSpPr>
        <p:spPr>
          <a:xfrm>
            <a:off x="3276720" y="159228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Распределить обязан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2"/>
          <p:cNvSpPr/>
          <p:nvPr/>
        </p:nvSpPr>
        <p:spPr>
          <a:xfrm>
            <a:off x="6172200" y="24541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пределить потреб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3"/>
          <p:cNvSpPr/>
          <p:nvPr/>
        </p:nvSpPr>
        <p:spPr>
          <a:xfrm>
            <a:off x="6324480" y="47242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овить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инимальный необходимый запа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4"/>
          <p:cNvSpPr/>
          <p:nvPr/>
        </p:nvSpPr>
        <p:spPr>
          <a:xfrm>
            <a:off x="3657600" y="532440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работать формы и журна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5"/>
          <p:cNvSpPr/>
          <p:nvPr/>
        </p:nvSpPr>
        <p:spPr>
          <a:xfrm>
            <a:off x="914400" y="4714920"/>
            <a:ext cx="2514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оздать систему для получения и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6"/>
          <p:cNvSpPr/>
          <p:nvPr/>
        </p:nvSpPr>
        <p:spPr>
          <a:xfrm>
            <a:off x="800280" y="228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ддерживать  систему учета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17"/>
          <p:cNvSpPr/>
          <p:nvPr/>
        </p:nvSpPr>
        <p:spPr>
          <a:xfrm>
            <a:off x="472428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20"/>
          <p:cNvSpPr/>
          <p:nvPr/>
        </p:nvSpPr>
        <p:spPr>
          <a:xfrm>
            <a:off x="472428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EA932-5C2C-4513-A824-62C3088AB03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потребностей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33520" y="1485720"/>
            <a:ext cx="86104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анализ потребностей 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атериалах и реагентах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список всех анализов, проводимых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все материалы, необходимые для каждого анали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800"/>
              </a:spcBef>
              <a:buClr>
                <a:srgbClr val="000066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спользуйте доступную информацию для расчета расхо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A050-67D7-4416-97B9-83DFFD323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4CE6-AD73-4A57-A3EF-CBFF46034D2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338040"/>
            <a:ext cx="76201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47492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Анализ потребностей: понадобится информа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Content Placeholder 198660"/>
          <p:cNvGrpSpPr/>
          <p:nvPr/>
        </p:nvGrpSpPr>
        <p:grpSpPr>
          <a:xfrm>
            <a:off x="542880" y="1488960"/>
            <a:ext cx="8217360" cy="4682520"/>
            <a:chOff x="542880" y="1488960"/>
            <a:chExt cx="8217360" cy="4682520"/>
          </a:xfrm>
        </p:grpSpPr>
        <p:sp>
          <p:nvSpPr>
            <p:cNvPr id="409" name="_s7172"/>
            <p:cNvSpPr/>
            <p:nvPr/>
          </p:nvSpPr>
          <p:spPr>
            <a:xfrm flipH="1" flipV="1">
              <a:off x="2615400" y="35737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_s7173"/>
            <p:cNvSpPr/>
            <p:nvPr/>
          </p:nvSpPr>
          <p:spPr>
            <a:xfrm>
              <a:off x="542880" y="2767680"/>
              <a:ext cx="213156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Место и условия хранен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_s7174"/>
            <p:cNvSpPr/>
            <p:nvPr/>
          </p:nvSpPr>
          <p:spPr>
            <a:xfrm flipH="1">
              <a:off x="3393000" y="44496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_s7175"/>
            <p:cNvSpPr/>
            <p:nvPr/>
          </p:nvSpPr>
          <p:spPr>
            <a:xfrm>
              <a:off x="1610280" y="4835160"/>
              <a:ext cx="2230560" cy="1336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ремя выполнения заявки и д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_s7176"/>
            <p:cNvSpPr/>
            <p:nvPr/>
          </p:nvSpPr>
          <p:spPr>
            <a:xfrm>
              <a:off x="5271840" y="4449600"/>
              <a:ext cx="634680" cy="502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_s7177"/>
            <p:cNvSpPr/>
            <p:nvPr/>
          </p:nvSpPr>
          <p:spPr>
            <a:xfrm>
              <a:off x="5465880" y="4835160"/>
              <a:ext cx="2131560" cy="1232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Степень важно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_s7178"/>
            <p:cNvSpPr/>
            <p:nvPr/>
          </p:nvSpPr>
          <p:spPr>
            <a:xfrm flipV="1">
              <a:off x="5561640" y="3570840"/>
              <a:ext cx="1023120" cy="193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_s7179"/>
            <p:cNvSpPr/>
            <p:nvPr/>
          </p:nvSpPr>
          <p:spPr>
            <a:xfrm>
              <a:off x="6534000" y="2767680"/>
              <a:ext cx="222624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100" spc="-1" strike="noStrike">
                  <a:solidFill>
                    <a:srgbClr val="000000"/>
                  </a:solidFill>
                  <a:latin typeface="Arial"/>
                </a:rPr>
                <a:t>Расход в месяц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определ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количества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_s7180"/>
            <p:cNvSpPr/>
            <p:nvPr/>
          </p:nvSpPr>
          <p:spPr>
            <a:xfrm flipV="1">
              <a:off x="4647960" y="2719080"/>
              <a:ext cx="0" cy="621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_s7181"/>
            <p:cNvSpPr/>
            <p:nvPr/>
          </p:nvSpPr>
          <p:spPr>
            <a:xfrm>
              <a:off x="3583800" y="1488960"/>
              <a:ext cx="213156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Единицы уч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_s7182"/>
            <p:cNvSpPr/>
            <p:nvPr/>
          </p:nvSpPr>
          <p:spPr>
            <a:xfrm>
              <a:off x="3352320" y="3340440"/>
              <a:ext cx="281808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</a:rPr>
                <a:t>Описание наименования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76320" y="608040"/>
            <a:ext cx="8991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3"/>
          <p:cNvSpPr/>
          <p:nvPr/>
        </p:nvSpPr>
        <p:spPr>
          <a:xfrm>
            <a:off x="609480" y="1752480"/>
            <a:ext cx="7848720" cy="350532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>
              <a:lnSpc>
                <a:spcPct val="100000"/>
              </a:lnSpc>
              <a:spcBef>
                <a:spcPts val="18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Verdana"/>
              </a:rPr>
              <a:t>Определение количества </a:t>
            </a:r>
            <a:r>
              <a:rPr b="0" lang="ru-RU" sz="3200" spc="-1" strike="noStrike">
                <a:solidFill>
                  <a:srgbClr val="ffcc00"/>
                </a:solidFill>
                <a:latin typeface="Verdana"/>
              </a:rPr>
              <a:t>это процесс расчета количества каждого конкретного наименования, которое потребуется на данный период времени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04B78-9D5D-446D-9D6E-C5414287E1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5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огда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80880" y="1785600"/>
            <a:ext cx="830592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 время ежегодного планирования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внедрении новых програм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 подготовке к возможной или уже начавшейся эпидем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3CA97-C933-43EC-9A58-9D8708FB48A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5486400" cy="32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потреблении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метод, основанный на заболеваем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E0A1-E919-480E-B2DF-A5E533D3EA9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"/>
          <p:cNvSpPr/>
          <p:nvPr/>
        </p:nvSpPr>
        <p:spPr>
          <a:xfrm>
            <a:off x="380880" y="609480"/>
            <a:ext cx="8382240" cy="5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1" lang="ru-RU" sz="3600" spc="-1" strike="noStrike">
                <a:solidFill>
                  <a:srgbClr val="cc3300"/>
                </a:solidFill>
                <a:latin typeface="Verdana"/>
              </a:rPr>
              <a:t>Как</a:t>
            </a:r>
            <a:r>
              <a:rPr b="1" lang="en-US" sz="3600" spc="-1" strike="noStrike">
                <a:solidFill>
                  <a:srgbClr val="cc33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99960"/>
            <a:ext cx="8305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52388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потребл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9154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потребле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28560" indent="-26676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фактически использова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роченный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рченный матери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66760">
              <a:lnSpc>
                <a:spcPct val="80000"/>
              </a:lnSpc>
              <a:spcBef>
                <a:spcPts val="11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атериал, запа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торого отсутствова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ьше 15 дней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ечение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Object 2" descr=""/>
          <p:cNvPicPr/>
          <p:nvPr/>
        </p:nvPicPr>
        <p:blipFill>
          <a:blip r:embed="rId1"/>
          <a:stretch/>
        </p:blipFill>
        <p:spPr>
          <a:xfrm>
            <a:off x="4978440" y="3378240"/>
            <a:ext cx="4064040" cy="2924280"/>
          </a:xfrm>
          <a:prstGeom prst="rect">
            <a:avLst/>
          </a:prstGeom>
          <a:ln w="0">
            <a:noFill/>
          </a:ln>
        </p:spPr>
      </p:pic>
      <p:sp>
        <p:nvSpPr>
          <p:cNvPr id="436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2597-5F31-4834-ADB1-7A66B034EB3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304560" y="175212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ано на фактическом числе случае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о учитывать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мер популя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астоту заболе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чность данных п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болеваем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комендации по леч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Object 2" descr=""/>
          <p:cNvPicPr/>
          <p:nvPr/>
        </p:nvPicPr>
        <p:blipFill>
          <a:blip r:embed="rId1"/>
          <a:stretch/>
        </p:blipFill>
        <p:spPr>
          <a:xfrm>
            <a:off x="5638680" y="2692440"/>
            <a:ext cx="3200400" cy="3321000"/>
          </a:xfrm>
          <a:prstGeom prst="rect">
            <a:avLst/>
          </a:prstGeom>
          <a:ln w="0">
            <a:noFill/>
          </a:ln>
        </p:spPr>
      </p:pic>
      <p:sp>
        <p:nvSpPr>
          <p:cNvPr id="44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0CDB-2C10-4A1E-8E80-4B7F2F97164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ectangle 4"/>
          <p:cNvSpPr/>
          <p:nvPr/>
        </p:nvSpPr>
        <p:spPr>
          <a:xfrm>
            <a:off x="457200" y="40428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пределение количества </a:t>
            </a:r>
            <a:br>
              <a:rPr sz="3600"/>
            </a:b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ходя из заболеваем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нвентарный уче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761976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сывай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 се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шел или не прошел критерии при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ту нач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ования и дату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ис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Удобно держать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в местах хранени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Picture 4" descr="storage_shelves"/>
          <p:cNvPicPr/>
          <p:nvPr/>
        </p:nvPicPr>
        <p:blipFill>
          <a:blip r:embed="rId1"/>
          <a:stretch/>
        </p:blipFill>
        <p:spPr>
          <a:xfrm>
            <a:off x="5734080" y="3429000"/>
            <a:ext cx="2266920" cy="228600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j0234700"/>
          <p:cNvPicPr/>
          <p:nvPr/>
        </p:nvPicPr>
        <p:blipFill>
          <a:blip r:embed="rId2"/>
          <a:stretch/>
        </p:blipFill>
        <p:spPr>
          <a:xfrm rot="2522400">
            <a:off x="7314840" y="4191120"/>
            <a:ext cx="1600200" cy="1476360"/>
          </a:xfrm>
          <a:prstGeom prst="rect">
            <a:avLst/>
          </a:prstGeom>
          <a:ln w="0">
            <a:noFill/>
          </a:ln>
        </p:spPr>
      </p:pic>
      <p:sp>
        <p:nvSpPr>
          <p:cNvPr id="44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4D07-5E1C-40C5-9181-98057D78988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9" name="Object 2"/>
          <p:cNvGraphicFramePr/>
          <p:nvPr/>
        </p:nvGraphicFramePr>
        <p:xfrm>
          <a:off x="5126040" y="1523880"/>
          <a:ext cx="401796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26040" y="1523880"/>
                    <a:ext cx="401796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Журнал запас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560" y="1217160"/>
            <a:ext cx="518148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ключа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полу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ич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у истечения срока го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инимальный запа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тат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ругая информация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омер пол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сто хра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Picture 5" descr=";og_book"/>
          <p:cNvPicPr/>
          <p:nvPr/>
        </p:nvPicPr>
        <p:blipFill>
          <a:blip r:embed="rId3"/>
          <a:stretch/>
        </p:blipFill>
        <p:spPr>
          <a:xfrm>
            <a:off x="5715000" y="3616200"/>
            <a:ext cx="2647800" cy="2179800"/>
          </a:xfrm>
          <a:prstGeom prst="rect">
            <a:avLst/>
          </a:prstGeom>
          <a:ln w="0">
            <a:noFill/>
          </a:ln>
        </p:spPr>
      </p:pic>
      <p:sp>
        <p:nvSpPr>
          <p:cNvPr id="45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8D05E-ED1B-4408-B134-44BBDC854F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838188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62040"/>
            <a:ext cx="861048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шаги внедрения програм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числить факторы, которые необходимо учитывать при приобретении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лан отслеживания для системы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 важность документации в отношении закупок и инвентарного уче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39E1-26E0-4669-B9F5-F3F73A7A6B4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369360"/>
            <a:ext cx="838188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Осмотрите новый заказ во время доставки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920" y="1506240"/>
            <a:ext cx="5790960" cy="48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содержимо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целост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вьте дату получения на каждом наименован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тметьте дату истечения срока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положите новую партию позади имеющей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делайте запис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4" descr="FIL15003"/>
          <p:cNvPicPr/>
          <p:nvPr/>
        </p:nvPicPr>
        <p:blipFill>
          <a:blip r:embed="rId1"/>
          <a:stretch/>
        </p:blipFill>
        <p:spPr>
          <a:xfrm>
            <a:off x="60199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pe01495_"/>
          <p:cNvPicPr/>
          <p:nvPr/>
        </p:nvPicPr>
        <p:blipFill>
          <a:blip r:embed="rId2"/>
          <a:stretch/>
        </p:blipFill>
        <p:spPr>
          <a:xfrm>
            <a:off x="670860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6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6ECB-7BF5-4C86-8A93-8D115161DF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ранение материал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0292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Комната для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чистая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рганизова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рающая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 хорошей вентиляци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з прямых солнечных лучей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ие, крепкие полк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едметы в пределах досягае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36180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няются меры безоп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Picture 4" descr="5539_lores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299200" y="108108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465" name="Picture 5" descr="storage_messy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302080" y="3571920"/>
            <a:ext cx="3689640" cy="2676600"/>
          </a:xfrm>
          <a:prstGeom prst="rect">
            <a:avLst/>
          </a:prstGeom>
          <a:ln w="0">
            <a:noFill/>
          </a:ln>
        </p:spPr>
      </p:pic>
      <p:sp>
        <p:nvSpPr>
          <p:cNvPr id="466" name="AutoShape 6"/>
          <p:cNvSpPr/>
          <p:nvPr/>
        </p:nvSpPr>
        <p:spPr>
          <a:xfrm>
            <a:off x="6213600" y="3962520"/>
            <a:ext cx="2133360" cy="2057400"/>
          </a:xfrm>
          <a:custGeom>
            <a:avLst/>
            <a:gdLst>
              <a:gd name="textAreaLeft" fmla="*/ 312120 w 2133360"/>
              <a:gd name="textAreaRight" fmla="*/ 1821240 w 213336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7" descr="j0434713"/>
          <p:cNvPicPr/>
          <p:nvPr/>
        </p:nvPicPr>
        <p:blipFill>
          <a:blip r:embed="rId3"/>
          <a:stretch/>
        </p:blipFill>
        <p:spPr>
          <a:xfrm>
            <a:off x="6213600" y="141912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6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364B9-1616-4AA3-9ED0-BEE9FC8AB5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Полки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472" name="Picture 10" descr="j0232844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11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4" descr="j0127642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475" name="Text Box 17"/>
          <p:cNvSpPr/>
          <p:nvPr/>
        </p:nvSpPr>
        <p:spPr>
          <a:xfrm>
            <a:off x="685800" y="5257800"/>
            <a:ext cx="29718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блюдайте правила безопас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Picture 18" descr="j0187423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2" descr="in00200_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478" name="Text Box 20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1"/>
          <p:cNvSpPr/>
          <p:nvPr/>
        </p:nvSpPr>
        <p:spPr>
          <a:xfrm>
            <a:off x="4572000" y="4343400"/>
            <a:ext cx="2133720" cy="205740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01320 h 2057400"/>
              <a:gd name="textAreaBottom" fmla="*/ 175608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Slide Number Placeholder 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4D6A2-443D-47A9-873E-1A4BAEDFED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5345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рганизация пол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отвратит «исчезновение» материал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экономит врем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тизирует мес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ения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ронумеруйте холодные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комнаты, холодильники и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морозильные установки,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и промаркируйте полки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3" name="Picture 4" descr="stock_room"/>
          <p:cNvPicPr/>
          <p:nvPr/>
        </p:nvPicPr>
        <p:blipFill>
          <a:blip r:embed="rId1"/>
          <a:stretch/>
        </p:blipFill>
        <p:spPr>
          <a:xfrm>
            <a:off x="5486400" y="178740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refrigerator_storage_cdc"/>
          <p:cNvPicPr/>
          <p:nvPr/>
        </p:nvPicPr>
        <p:blipFill>
          <a:blip r:embed="rId2"/>
          <a:srcRect l="0" t="0" r="0" b="25408"/>
          <a:stretch/>
        </p:blipFill>
        <p:spPr>
          <a:xfrm>
            <a:off x="4267080" y="4676760"/>
            <a:ext cx="3581640" cy="1876320"/>
          </a:xfrm>
          <a:prstGeom prst="rect">
            <a:avLst/>
          </a:prstGeom>
          <a:ln w="0">
            <a:noFill/>
          </a:ln>
        </p:spPr>
      </p:pic>
      <p:sp>
        <p:nvSpPr>
          <p:cNvPr id="48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D3C5-942D-4D9B-8B9C-DFE2AAD860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спользуйте хорошо заметную маркировку дат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6840" y="1752480"/>
            <a:ext cx="85345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, когда емкость откры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та истечения срока год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89" name="Picture 4" descr=""/>
          <p:cNvPicPr/>
          <p:nvPr/>
        </p:nvPicPr>
        <p:blipFill>
          <a:blip r:embed="rId1"/>
          <a:stretch/>
        </p:blipFill>
        <p:spPr>
          <a:xfrm>
            <a:off x="3276720" y="314496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490" name="AutoShape 5"/>
          <p:cNvSpPr/>
          <p:nvPr/>
        </p:nvSpPr>
        <p:spPr>
          <a:xfrm>
            <a:off x="4495680" y="403848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6"/>
          <p:cNvSpPr/>
          <p:nvPr/>
        </p:nvSpPr>
        <p:spPr>
          <a:xfrm>
            <a:off x="2514600" y="40384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Oval 7"/>
          <p:cNvSpPr/>
          <p:nvPr/>
        </p:nvSpPr>
        <p:spPr>
          <a:xfrm>
            <a:off x="4876920" y="380988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8"/>
          <p:cNvSpPr/>
          <p:nvPr/>
        </p:nvSpPr>
        <p:spPr>
          <a:xfrm>
            <a:off x="7162920" y="3733920"/>
            <a:ext cx="1600200" cy="380880"/>
          </a:xfrm>
          <a:prstGeom prst="leftArrow">
            <a:avLst>
              <a:gd name="adj1" fmla="val 50000"/>
              <a:gd name="adj2" fmla="val 10503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F78B-7898-4F39-93F1-EA5508260C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стоянное отслеживание материалов в наличии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7" name="Oval 3"/>
          <p:cNvSpPr/>
          <p:nvPr/>
        </p:nvSpPr>
        <p:spPr>
          <a:xfrm>
            <a:off x="3048120" y="16002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Oval 4"/>
          <p:cNvSpPr/>
          <p:nvPr/>
        </p:nvSpPr>
        <p:spPr>
          <a:xfrm>
            <a:off x="6019920" y="3200400"/>
            <a:ext cx="2819160" cy="1676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Oval 5"/>
          <p:cNvSpPr/>
          <p:nvPr/>
        </p:nvSpPr>
        <p:spPr>
          <a:xfrm>
            <a:off x="3200400" y="4876920"/>
            <a:ext cx="2743200" cy="17524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6"/>
          <p:cNvSpPr/>
          <p:nvPr/>
        </p:nvSpPr>
        <p:spPr>
          <a:xfrm>
            <a:off x="685800" y="3276720"/>
            <a:ext cx="2362320" cy="167616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"/>
          <p:cNvSpPr/>
          <p:nvPr/>
        </p:nvSpPr>
        <p:spPr>
          <a:xfrm>
            <a:off x="2743200" y="167652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начьте ответствен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8"/>
          <p:cNvSpPr/>
          <p:nvPr/>
        </p:nvSpPr>
        <p:spPr>
          <a:xfrm>
            <a:off x="2971800" y="53341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е еженедельно подсче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9"/>
          <p:cNvSpPr/>
          <p:nvPr/>
        </p:nvSpPr>
        <p:spPr>
          <a:xfrm>
            <a:off x="304920" y="3603600"/>
            <a:ext cx="26668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новляйт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6172200" y="3479760"/>
            <a:ext cx="25146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ержите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урналы запасов во всех местах хран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1"/>
          <p:cNvSpPr/>
          <p:nvPr/>
        </p:nvSpPr>
        <p:spPr>
          <a:xfrm>
            <a:off x="2743200" y="2644920"/>
            <a:ext cx="3505320" cy="2765160"/>
          </a:xfrm>
          <a:custGeom>
            <a:avLst/>
            <a:gdLst>
              <a:gd name="textAreaLeft" fmla="*/ 876240 w 3505320"/>
              <a:gd name="textAreaRight" fmla="*/ 2629080 w 3505320"/>
              <a:gd name="textAreaTop" fmla="*/ 691200 h 2765160"/>
              <a:gd name="textAreaBottom" fmla="*/ 2073960 h 27651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50" y="5400"/>
                </a:lnTo>
                <a:lnTo>
                  <a:pt x="945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150" y="2700"/>
                </a:lnTo>
                <a:lnTo>
                  <a:pt x="12150" y="5400"/>
                </a:lnTo>
                <a:lnTo>
                  <a:pt x="16200" y="5400"/>
                </a:lnTo>
                <a:lnTo>
                  <a:pt x="16200" y="9450"/>
                </a:lnTo>
                <a:lnTo>
                  <a:pt x="18900" y="945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150"/>
                </a:lnTo>
                <a:lnTo>
                  <a:pt x="16200" y="12150"/>
                </a:lnTo>
                <a:lnTo>
                  <a:pt x="16200" y="16200"/>
                </a:lnTo>
                <a:lnTo>
                  <a:pt x="12150" y="16200"/>
                </a:lnTo>
                <a:lnTo>
                  <a:pt x="1215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50" y="18900"/>
                </a:lnTo>
                <a:lnTo>
                  <a:pt x="9450" y="16200"/>
                </a:lnTo>
                <a:lnTo>
                  <a:pt x="5400" y="16200"/>
                </a:lnTo>
                <a:lnTo>
                  <a:pt x="5400" y="12150"/>
                </a:lnTo>
                <a:lnTo>
                  <a:pt x="2700" y="1215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50"/>
                </a:lnTo>
                <a:lnTo>
                  <a:pt x="5400" y="9450"/>
                </a:lnTo>
                <a:lnTo>
                  <a:pt x="5400" y="5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2"/>
          <p:cNvSpPr/>
          <p:nvPr/>
        </p:nvSpPr>
        <p:spPr>
          <a:xfrm>
            <a:off x="3048120" y="3429000"/>
            <a:ext cx="243828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троль  налич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07760-2237-4AF9-9588-644ECAD0F4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28600" y="541440"/>
            <a:ext cx="8229600" cy="58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ная система учета запасов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еимущества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чная текущая информация о наличии запасов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систематизация материа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лежение за сроками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тисти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ланирование закуп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рганизация возможной переда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блегчает задачи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ки</a:t>
            </a: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пьютеры на мест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ебуется обученный персон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docs_computer_africa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867280" y="3352680"/>
            <a:ext cx="2895840" cy="2632320"/>
          </a:xfrm>
          <a:prstGeom prst="rect">
            <a:avLst/>
          </a:prstGeom>
          <a:ln w="0">
            <a:noFill/>
          </a:ln>
        </p:spPr>
      </p:pic>
      <p:sp>
        <p:nvSpPr>
          <p:cNvPr id="51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45E6-DF91-421D-ADF0-50A9064106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160" y="541440"/>
            <a:ext cx="8381880" cy="37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560" y="1303200"/>
            <a:ext cx="8458200" cy="45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 хорошо управляемой лаборатории должна быть система закупки и поддержания запас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должна включать планирование и отслеживание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з потребностей, разработка форм и процедур,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 также отслеживание наличия. Лаборатория должна поддерживать систему учета всех реагентов и расходных материалов, используемых в лаборатори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AE1FD-3FC2-4891-9E93-61F912DF30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560" y="1274400"/>
            <a:ext cx="8458200" cy="45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нвентарный учет приведет к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величению производительности и  продуктивности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дежному удовлетворению потребностей пациентов и врач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личию материалов в нужное вре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7F8E0-E74C-43E1-886D-112FA14A139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A703-05D8-4AD6-B3B7-2624246E7A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105520" y="1209240"/>
            <a:ext cx="4038480" cy="194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524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525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40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41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42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4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47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8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50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51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56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8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61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3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65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7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68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74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77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80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2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78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ашу лабораторию попросили подготовиться к возможной эпидемии гриппа.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ие факторы в отношении закупки и инвентарного учета необходимо учесть при планирован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>
              <a:spcBef>
                <a:spcPts val="1199"/>
              </a:spcBef>
              <a:spcAft>
                <a:spcPts val="1199"/>
              </a:spcAft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акими проблемами вы можете столкнуться при составлении и выполнении плана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2E375-8F7C-471F-8AA0-50CC41C60D5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24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10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11"/>
            <p:cNvSpPr/>
            <p:nvPr/>
          </p:nvSpPr>
          <p:spPr>
            <a:xfrm>
              <a:off x="4122000" y="3786120"/>
              <a:ext cx="379800" cy="372960"/>
            </a:xfrm>
            <a:custGeom>
              <a:avLst/>
              <a:gdLst>
                <a:gd name="textAreaLeft" fmla="*/ 0 w 379800"/>
                <a:gd name="textAreaRight" fmla="*/ 380160 w 37980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22"/>
            <p:cNvSpPr/>
            <p:nvPr/>
          </p:nvSpPr>
          <p:spPr>
            <a:xfrm>
              <a:off x="2520360" y="3119040"/>
              <a:ext cx="202320" cy="38160"/>
            </a:xfrm>
            <a:custGeom>
              <a:avLst/>
              <a:gdLst>
                <a:gd name="textAreaLeft" fmla="*/ 0 w 202320"/>
                <a:gd name="textAreaRight" fmla="*/ 202680 w 2023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26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26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26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5" name="Text Box 70"/>
                <p:cNvSpPr/>
                <p:nvPr/>
              </p:nvSpPr>
              <p:spPr>
                <a:xfrm>
                  <a:off x="1848600" y="1418400"/>
                  <a:ext cx="1475640" cy="36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26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27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27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Line 27"/>
            <p:cNvSpPr/>
            <p:nvPr/>
          </p:nvSpPr>
          <p:spPr>
            <a:xfrm flipH="1">
              <a:off x="2304000" y="30445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277" name="Freeform 46"/>
              <p:cNvSpPr/>
              <p:nvPr/>
            </p:nvSpPr>
            <p:spPr>
              <a:xfrm>
                <a:off x="1855800" y="2438280"/>
                <a:ext cx="1374840" cy="1139760"/>
              </a:xfrm>
              <a:custGeom>
                <a:avLst/>
                <a:gdLst>
                  <a:gd name="textAreaLeft" fmla="*/ 0 w 1374840"/>
                  <a:gd name="textAreaRight" fmla="*/ 1375200 w 13748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28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28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289" name="Freeform 30"/>
              <p:cNvSpPr/>
              <p:nvPr/>
            </p:nvSpPr>
            <p:spPr>
              <a:xfrm>
                <a:off x="3855240" y="3740040"/>
                <a:ext cx="1370520" cy="114120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27"/>
            <p:cNvSpPr/>
            <p:nvPr/>
          </p:nvSpPr>
          <p:spPr>
            <a:xfrm flipH="1">
              <a:off x="2304000" y="5559120"/>
              <a:ext cx="46746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9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98" name="Freeform 34"/>
              <p:cNvSpPr/>
              <p:nvPr/>
            </p:nvSpPr>
            <p:spPr>
              <a:xfrm>
                <a:off x="3879360" y="4966920"/>
                <a:ext cx="1368720" cy="1140120"/>
              </a:xfrm>
              <a:custGeom>
                <a:avLst/>
                <a:gdLst>
                  <a:gd name="textAreaLeft" fmla="*/ 0 w 1368720"/>
                  <a:gd name="textAreaRight" fmla="*/ 1369080 w 136872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301" name="Freeform 63"/>
              <p:cNvSpPr/>
              <p:nvPr/>
            </p:nvSpPr>
            <p:spPr>
              <a:xfrm>
                <a:off x="5774400" y="5032080"/>
                <a:ext cx="1370520" cy="1139760"/>
              </a:xfrm>
              <a:custGeom>
                <a:avLst/>
                <a:gdLst>
                  <a:gd name="textAreaLeft" fmla="*/ 0 w 1370520"/>
                  <a:gd name="textAreaRight" fmla="*/ 1370520 w 137052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4D025-989F-4B06-B940-60D2A7AC95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AutoShape 2"/>
          <p:cNvSpPr/>
          <p:nvPr/>
        </p:nvSpPr>
        <p:spPr>
          <a:xfrm>
            <a:off x="457200" y="609480"/>
            <a:ext cx="8077320" cy="1828800"/>
          </a:xfrm>
          <a:prstGeom prst="flowChartAlternate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еимуществ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Verdana"/>
              </a:rPr>
              <a:t>программы инвентарного уч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3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5867280" y="3124080"/>
            <a:ext cx="2971800" cy="266724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762120" y="32004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териалы и реагенты всегда в налич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6"/>
          <p:cNvSpPr/>
          <p:nvPr/>
        </p:nvSpPr>
        <p:spPr>
          <a:xfrm>
            <a:off x="5943600" y="3246480"/>
            <a:ext cx="2895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кращает поте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едотвращает незапланированные затрат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7" descr="j0424198"/>
          <p:cNvPicPr/>
          <p:nvPr/>
        </p:nvPicPr>
        <p:blipFill>
          <a:blip r:embed="rId1"/>
          <a:stretch/>
        </p:blipFill>
        <p:spPr>
          <a:xfrm>
            <a:off x="6781680" y="4578480"/>
            <a:ext cx="1771920" cy="1136520"/>
          </a:xfrm>
          <a:prstGeom prst="rect">
            <a:avLst/>
          </a:prstGeom>
          <a:ln w="0">
            <a:noFill/>
          </a:ln>
        </p:spPr>
      </p:pic>
      <p:sp>
        <p:nvSpPr>
          <p:cNvPr id="311" name="AutoShape 8"/>
          <p:cNvSpPr/>
          <p:nvPr/>
        </p:nvSpPr>
        <p:spPr>
          <a:xfrm>
            <a:off x="3200400" y="3200400"/>
            <a:ext cx="2666880" cy="251460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573840 h 2514600"/>
              <a:gd name="textAreaBottom" fmla="*/ 19407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9"/>
          <p:cNvSpPr/>
          <p:nvPr/>
        </p:nvSpPr>
        <p:spPr>
          <a:xfrm>
            <a:off x="3276720" y="4130640"/>
            <a:ext cx="26668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Verdana"/>
              </a:rPr>
              <a:t>Поддержание качест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0" descr="lab1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314" name="Line 11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12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13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C1F4-62EE-4213-B3DF-5AE38AAA3F9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рудности инвентарного учета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0769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держание баланса запасов и сроков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рок год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агентов варьирует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агенты РИ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д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ст-системы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: 4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мунная сыворотка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4 г.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ски с антибиотиками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2-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товы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1 -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2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ес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ухие среды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: 3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5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5105520" y="2097000"/>
            <a:ext cx="3733560" cy="3084480"/>
            <a:chOff x="5105520" y="2097000"/>
            <a:chExt cx="3733560" cy="3084480"/>
          </a:xfrm>
        </p:grpSpPr>
        <p:pic>
          <p:nvPicPr>
            <p:cNvPr id="323" name="Picture 4" descr="FIL738"/>
            <p:cNvPicPr/>
            <p:nvPr/>
          </p:nvPicPr>
          <p:blipFill>
            <a:blip r:embed="rId1"/>
            <a:stretch/>
          </p:blipFill>
          <p:spPr>
            <a:xfrm>
              <a:off x="5105520" y="2097000"/>
              <a:ext cx="3733560" cy="308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5"/>
            <p:cNvSpPr/>
            <p:nvPr/>
          </p:nvSpPr>
          <p:spPr>
            <a:xfrm>
              <a:off x="5544720" y="3469320"/>
              <a:ext cx="878400" cy="3682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Запа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6"/>
            <p:cNvSpPr/>
            <p:nvPr/>
          </p:nvSpPr>
          <p:spPr>
            <a:xfrm>
              <a:off x="7521480" y="3164400"/>
              <a:ext cx="1098000" cy="420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36000" bIns="0" anchor="t">
              <a:spAutoFit/>
            </a:bodyPr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</a:rPr>
                <a:t>Срок годно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ABE6-FD79-4BDA-BB29-5C01437739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2825-455F-4FB9-BDD7-A2E00928CA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лючевые компоненты управления закупками и инвентарного учет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9" name="Rectangle 7"/>
          <p:cNvSpPr/>
          <p:nvPr/>
        </p:nvSpPr>
        <p:spPr>
          <a:xfrm>
            <a:off x="4267080" y="2362320"/>
            <a:ext cx="190512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Осмо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ровер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Сортиров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9"/>
          <p:cNvSpPr/>
          <p:nvPr/>
        </p:nvSpPr>
        <p:spPr>
          <a:xfrm>
            <a:off x="6934320" y="3809880"/>
            <a:ext cx="20574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Журнал уч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Срок год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Обновление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0"/>
          <p:cNvSpPr/>
          <p:nvPr/>
        </p:nvSpPr>
        <p:spPr>
          <a:xfrm>
            <a:off x="2438280" y="4572000"/>
            <a:ext cx="259092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7d"/>
                </a:solidFill>
                <a:latin typeface="Arial"/>
              </a:rPr>
              <a:t>Лаборатория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5410080" y="4191120"/>
            <a:ext cx="1067040" cy="129528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2"/>
          <p:cNvSpPr/>
          <p:nvPr/>
        </p:nvSpPr>
        <p:spPr>
          <a:xfrm>
            <a:off x="457200" y="5105520"/>
            <a:ext cx="160020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руг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Group 14"/>
          <p:cNvGrpSpPr/>
          <p:nvPr/>
        </p:nvGrpSpPr>
        <p:grpSpPr>
          <a:xfrm>
            <a:off x="380880" y="1828800"/>
            <a:ext cx="3581280" cy="2458440"/>
            <a:chOff x="380880" y="1828800"/>
            <a:chExt cx="3581280" cy="2458440"/>
          </a:xfrm>
        </p:grpSpPr>
        <p:sp>
          <p:nvSpPr>
            <p:cNvPr id="335" name="AutoShape 13"/>
            <p:cNvSpPr/>
            <p:nvPr/>
          </p:nvSpPr>
          <p:spPr>
            <a:xfrm>
              <a:off x="380880" y="1828800"/>
              <a:ext cx="3504960" cy="24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6" name="_s180244"/>
            <p:cNvCxnSpPr>
              <a:stCxn id="337" idx="1"/>
              <a:endCxn id="338" idx="2"/>
            </p:cNvCxnSpPr>
            <p:nvPr/>
          </p:nvCxnSpPr>
          <p:spPr>
            <a:xfrm rot="10800000">
              <a:off x="2127240" y="2811240"/>
              <a:ext cx="25596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39" name="_s180243"/>
            <p:cNvCxnSpPr>
              <a:stCxn id="340" idx="3"/>
              <a:endCxn id="338" idx="2"/>
            </p:cNvCxnSpPr>
            <p:nvPr/>
          </p:nvCxnSpPr>
          <p:spPr>
            <a:xfrm flipV="1">
              <a:off x="1882440" y="2811240"/>
              <a:ext cx="24588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38" name="_s180239"/>
            <p:cNvSpPr/>
            <p:nvPr/>
          </p:nvSpPr>
          <p:spPr>
            <a:xfrm>
              <a:off x="1218600" y="1828800"/>
              <a:ext cx="18187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Квалификаци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поставщ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Догов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_s180241"/>
            <p:cNvSpPr/>
            <p:nvPr/>
          </p:nvSpPr>
          <p:spPr>
            <a:xfrm>
              <a:off x="2383560" y="3303720"/>
              <a:ext cx="157860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Достав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AutoShape 37"/>
          <p:cNvSpPr/>
          <p:nvPr/>
        </p:nvSpPr>
        <p:spPr>
          <a:xfrm>
            <a:off x="4267080" y="5867280"/>
            <a:ext cx="2895840" cy="60984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Отслежи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Arial"/>
              </a:rPr>
              <a:t>после использ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38"/>
          <p:cNvSpPr/>
          <p:nvPr/>
        </p:nvSpPr>
        <p:spPr>
          <a:xfrm flipV="1">
            <a:off x="4419720" y="3733920"/>
            <a:ext cx="60948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39"/>
          <p:cNvSpPr/>
          <p:nvPr/>
        </p:nvSpPr>
        <p:spPr>
          <a:xfrm flipH="1">
            <a:off x="2057400" y="49528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40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42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43"/>
          <p:cNvSpPr/>
          <p:nvPr/>
        </p:nvSpPr>
        <p:spPr>
          <a:xfrm flipH="1">
            <a:off x="7162920" y="5638680"/>
            <a:ext cx="3808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Line 45"/>
          <p:cNvSpPr/>
          <p:nvPr/>
        </p:nvSpPr>
        <p:spPr>
          <a:xfrm>
            <a:off x="5943600" y="5486400"/>
            <a:ext cx="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Line 47"/>
          <p:cNvSpPr/>
          <p:nvPr/>
        </p:nvSpPr>
        <p:spPr>
          <a:xfrm>
            <a:off x="8077320" y="3303720"/>
            <a:ext cx="0" cy="50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48"/>
          <p:cNvSpPr/>
          <p:nvPr/>
        </p:nvSpPr>
        <p:spPr>
          <a:xfrm flipH="1">
            <a:off x="6476760" y="3352680"/>
            <a:ext cx="60948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9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0"/>
          <p:cNvSpPr/>
          <p:nvPr/>
        </p:nvSpPr>
        <p:spPr>
          <a:xfrm>
            <a:off x="7010280" y="1752480"/>
            <a:ext cx="1981440" cy="155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</a:rPr>
              <a:t>Хра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Условия хра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00"/>
                </a:solidFill>
                <a:latin typeface="Arial"/>
                <a:ea typeface="Arial"/>
              </a:rPr>
              <a:t>Поддерж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2" descr="pipetting"/>
          <p:cNvPicPr/>
          <p:nvPr/>
        </p:nvPicPr>
        <p:blipFill>
          <a:blip r:embed="rId4"/>
          <a:stretch/>
        </p:blipFill>
        <p:spPr>
          <a:xfrm>
            <a:off x="5486400" y="403848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54"/>
          <p:cNvSpPr/>
          <p:nvPr/>
        </p:nvSpPr>
        <p:spPr>
          <a:xfrm>
            <a:off x="5410080" y="4724280"/>
            <a:ext cx="1219320" cy="3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0" bIns="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Исполь-зован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5"/>
          <p:cNvSpPr/>
          <p:nvPr/>
        </p:nvSpPr>
        <p:spPr>
          <a:xfrm flipV="1">
            <a:off x="20574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3160" y="39996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систему оценки и выбора поставщиков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3"/>
          <p:cNvSpPr/>
          <p:nvPr/>
        </p:nvSpPr>
        <p:spPr>
          <a:xfrm>
            <a:off x="380880" y="1946160"/>
            <a:ext cx="83822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критерии для материалов и услуг, которые будут покупать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правьтесь в других лаборатор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цените до покупки и после пол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D0089-9703-415C-BBDD-10FF3F394AF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Slide Number Placeholder 2"/>
          <p:cNvSpPr/>
          <p:nvPr/>
        </p:nvSpPr>
        <p:spPr>
          <a:xfrm>
            <a:off x="6553080" y="63756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4717-C9FC-430F-A80A-B0BBA2607D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читывать при покупк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3276720" y="4343400"/>
            <a:ext cx="213336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ределите механизм оплат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5562720" y="3733920"/>
            <a:ext cx="3352680" cy="26668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Organization Chart 2"/>
          <p:cNvGrpSpPr/>
          <p:nvPr/>
        </p:nvGrpSpPr>
        <p:grpSpPr>
          <a:xfrm>
            <a:off x="457200" y="1143000"/>
            <a:ext cx="5409720" cy="2970720"/>
            <a:chOff x="457200" y="1143000"/>
            <a:chExt cx="5409720" cy="2970720"/>
          </a:xfrm>
        </p:grpSpPr>
        <p:cxnSp>
          <p:nvCxnSpPr>
            <p:cNvPr id="365" name="_s6148"/>
            <p:cNvCxnSpPr/>
            <p:nvPr/>
          </p:nvCxnSpPr>
          <p:spPr>
            <a:xfrm rot="10800000">
              <a:off x="3198960" y="2283840"/>
              <a:ext cx="387000" cy="12056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66" name="_s6149"/>
            <p:cNvCxnSpPr/>
            <p:nvPr/>
          </p:nvCxnSpPr>
          <p:spPr>
            <a:xfrm flipV="1">
              <a:off x="2818440" y="2679840"/>
              <a:ext cx="387000" cy="119700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67" name="_s6150"/>
            <p:cNvSpPr/>
            <p:nvPr/>
          </p:nvSpPr>
          <p:spPr>
            <a:xfrm>
              <a:off x="457200" y="1143000"/>
              <a:ext cx="540972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6151"/>
            <p:cNvSpPr/>
            <p:nvPr/>
          </p:nvSpPr>
          <p:spPr>
            <a:xfrm>
              <a:off x="531720" y="2913840"/>
              <a:ext cx="232128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Ведите переговоры о це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6152"/>
            <p:cNvSpPr/>
            <p:nvPr/>
          </p:nvSpPr>
          <p:spPr>
            <a:xfrm>
              <a:off x="3505320" y="2680560"/>
              <a:ext cx="2318400" cy="11998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80000"/>
                </a:lnSpc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cc00"/>
                  </a:solidFill>
                  <a:latin typeface="Arial"/>
                </a:rPr>
                <a:t>Просмотрите договоры поставк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Line 17"/>
          <p:cNvSpPr/>
          <p:nvPr/>
        </p:nvSpPr>
        <p:spPr>
          <a:xfrm>
            <a:off x="5334120" y="3581280"/>
            <a:ext cx="761760" cy="505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23"/>
          <p:cNvSpPr/>
          <p:nvPr/>
        </p:nvSpPr>
        <p:spPr>
          <a:xfrm>
            <a:off x="4419720" y="380988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31"/>
          <p:cNvSpPr/>
          <p:nvPr/>
        </p:nvSpPr>
        <p:spPr>
          <a:xfrm>
            <a:off x="533520" y="1143000"/>
            <a:ext cx="51433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Знайте государствен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32"/>
          <p:cNvSpPr/>
          <p:nvPr/>
        </p:nvSpPr>
        <p:spPr>
          <a:xfrm>
            <a:off x="2438280" y="4114800"/>
            <a:ext cx="83844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4" name="Picture 33" descr="j0412568"/>
          <p:cNvPicPr/>
          <p:nvPr/>
        </p:nvPicPr>
        <p:blipFill>
          <a:blip r:embed="rId1"/>
          <a:stretch/>
        </p:blipFill>
        <p:spPr>
          <a:xfrm>
            <a:off x="304920" y="388620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34" descr="j0311860"/>
          <p:cNvPicPr/>
          <p:nvPr/>
        </p:nvPicPr>
        <p:blipFill>
          <a:blip r:embed="rId2"/>
          <a:stretch/>
        </p:blipFill>
        <p:spPr>
          <a:xfrm>
            <a:off x="5676840" y="2397240"/>
            <a:ext cx="1219320" cy="11286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5" descr="j0185303"/>
          <p:cNvPicPr/>
          <p:nvPr/>
        </p:nvPicPr>
        <p:blipFill>
          <a:blip r:embed="rId3"/>
          <a:stretch/>
        </p:blipFill>
        <p:spPr>
          <a:xfrm>
            <a:off x="6400800" y="464832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36"/>
          <p:cNvSpPr/>
          <p:nvPr/>
        </p:nvSpPr>
        <p:spPr>
          <a:xfrm>
            <a:off x="5595840" y="3809880"/>
            <a:ext cx="2938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бедитесь, что наличие и доставка надеж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упка и инвентарный учет – Тема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08T14:31:30Z</dcterms:modified>
  <cp:revision>184</cp:revision>
  <dc:subject/>
  <dc:title>Slide 1</dc:title>
</cp:coreProperties>
</file>